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D7A9-98E9-415E-A3C7-DEF8788A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65E-6F0D-4950-8D04-B13D8AC4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2DDE-6C5E-4B85-A2F5-C0552D56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7E8-85D3-4C97-A96B-2924BBA8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7CED-AF85-40B2-945D-DE725BFB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31FB-7B64-43E4-A4ED-53451CA9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9CDB-945F-4360-AC9A-3924EE6E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2CE9-DABD-4A06-9A4F-9414ED76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059F-0D9A-4CCF-8E76-7A078066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2DBC-491E-42B7-8A0D-8D632260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1E6D-6191-49A2-A73A-AF4A414C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0091-9FB6-4C9D-999C-DCF0EDAF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CA3A-4A57-4D60-BEC9-0BC32B5172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28:01Z</dcterms:created>
  <dc:creator>Mariajose</dc:creator>
  <dc:description/>
  <dc:language>en-US</dc:language>
  <cp:lastModifiedBy>Asus</cp:lastModifiedBy>
  <dcterms:modified xsi:type="dcterms:W3CDTF">2018-11-24T09:41:02Z</dcterms:modified>
  <cp:revision>41</cp:revision>
  <dc:subject/>
  <dc:title>TITLE</dc:title>
</cp:coreProperties>
</file>